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5183-D2AD-4467-81D4-9779DF263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F61D-3DA6-4C7B-9F0E-13026FD89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D95A-E244-4C53-958C-92D0630DF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2AAA-89BB-439A-BBC3-1786CE5E4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71C7-1AA2-4052-BA05-D4FE46A1D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A67B-A068-4976-BAC2-54D3363BE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0521-48EF-44EA-B504-DE7952382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8147-613B-4DA3-BF52-DB109F9D2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915D-7E39-45D3-BA91-8E4ACDACE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D915-71D7-46FB-8EF1-776A3AA31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992A-7590-42AA-BCB4-35D07C142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9016-CCAD-4A5A-8D9C-1A3DB8E9B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9B0E-3950-468D-A3DC-3899B6BCE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F96E-86B5-4DC0-AE4B-150D771A9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my scaffolds don’t give it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011A-93FB-4037-B1C6-80595729B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my scaffolds don’t give it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1FF0-2554-4B13-8CDE-41BE1EDE5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58D9-6C36-429C-A0DC-4C7981F28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1612-3B15-4A5B-94D2-817C2096D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4B8F-140D-419A-8BCA-A7E633585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1766-FB3A-4E48-A331-8A72816B9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A92B-74CD-4EB4-9B5A-19A40FB44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F115-8CB5-4B21-9726-12D01CFC7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266F-4D8C-4A01-897B-616F765FF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measuring algebraic expressions for general term, but yes for term value/term number relationships or predicting 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59DC-A0A7-4F0F-A37A-B3A41F9A8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9F40-1B4B-4452-BFBD-DAD7499AA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measuring algebraic expressions for general term, but yes for representing linear growing patterns, predicting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F09B-89C0-4809-A25C-C83713EC5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DB9E-D5F4-4670-80B2-99AFA8E15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D404-EBE9-4ACA-9133-D2081D0DC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D575-AC7F-44FE-83B9-71907BD2D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47A9-64AF-426F-98EE-DAF29A23E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1C05-7CEB-49C7-84BD-6EBDC2972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063E-A2C0-47B9-9962-4B3C0D7AF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5693-C715-48C1-8537-A54ED0636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086E-6A41-4FD8-AA14-C980B841C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C01D-416E-4990-93DD-C731CCF96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at these scaffolds don’t tell the kid what to do– they keep them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1EB2-4683-4094-8416-B6899DE49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CDDB-5051-46B3-9D70-FDAA8D10B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38EF-1D17-4D4A-AA0C-D2C86BE67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E785-B670-491A-ADAE-2793A0223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0811-14F2-4CA7-B365-039F626B3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E310-8356-4F23-9584-DAE663D3A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5B02-89B0-45EE-B4FF-A3E334B49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CB09-3230-4A26-88D5-959DFD93D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E80A-A8AA-461F-A5D9-195F882E6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F3A3-4C93-45FE-8457-629840FDF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A205-9EDB-43EE-969B-6060A5ED8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2C35-A309-40D0-B757-40062967D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E962-9B1A-42E0-816D-87739B056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F4D8-216F-42E2-BC84-10F81101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EFD0-8F3B-4356-BB06-49E4C9013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F49C-4701-41DA-86D2-A9AA70CE8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C98B-BF8B-45C5-8FE3-01E33DA62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7CE4-7D0B-4204-8FBF-F0AFC1CB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71C7-2DAC-4253-8AB7-541EE639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2F27-DE6A-4AA9-BA6F-A646455D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EEC9-E008-4182-923C-0E3E33AD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85FA-20DB-4D2E-ACE5-86AA55A7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DF73-0E30-4DBC-B48D-E166F08D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840E-9396-4B10-863B-639FCAA2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D4A2-D6FF-48BB-B20D-FD7C527A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60F8-A300-4216-8C86-0D8EEA37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5166-8B0B-49B4-BF07-7184ACFD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66FF-EE61-42D1-9E5C-0A8C4101A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F609-6C69-4F63-8CDE-007054209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4C0E-C568-45F8-9985-829C1BB9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45E0-416E-44D4-87B8-AD0AAA2A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0591-2425-4626-A6BD-C4EAC064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F70A-2E18-4B49-9728-319121C5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A376-845B-4AA5-BB6F-1F0A98A4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8B49-9E86-4D60-BE8C-D552C039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C8B6-960F-4E3D-89F8-C020B18D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30F9-B612-4081-B996-8F6B25A19C0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Untitled-1"/>
          <p:cNvPicPr/>
          <p:nvPr/>
        </p:nvPicPr>
        <p:blipFill>
          <a:blip r:embed="rId3"/>
          <a:stretch/>
        </p:blipFill>
        <p:spPr>
          <a:xfrm>
            <a:off x="380880" y="380880"/>
            <a:ext cx="6853320" cy="1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A7CF-050D-4424-8C3A-58642E4E958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Plenary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8889-A175-4B83-9C88-E7AECF8FAAB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143000" y="2438280"/>
            <a:ext cx="73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other relationship might always be tr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 can I do to scaffol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B8E2-5131-48BD-B8D6-73868EB2A60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143000" y="2438280"/>
            <a:ext cx="73152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oose your relationship and draw the pictu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est it by seeing if someone else “gets it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You 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EDFB-FFCA-46D5-914D-CF604EAA883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143000" y="24382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(x +3) = 2x +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One possible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6"/>
          <p:cNvGrpSpPr/>
          <p:nvPr/>
        </p:nvGrpSpPr>
        <p:grpSpPr>
          <a:xfrm>
            <a:off x="3200400" y="3581280"/>
            <a:ext cx="4952880" cy="825840"/>
            <a:chOff x="3200400" y="3581280"/>
            <a:chExt cx="4952880" cy="825840"/>
          </a:xfrm>
        </p:grpSpPr>
        <p:sp>
          <p:nvSpPr>
            <p:cNvPr id="162" name="Rectangle 5"/>
            <p:cNvSpPr/>
            <p:nvPr/>
          </p:nvSpPr>
          <p:spPr>
            <a:xfrm>
              <a:off x="3200400" y="3581280"/>
              <a:ext cx="1904760" cy="38124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7"/>
            <p:cNvSpPr/>
            <p:nvPr/>
          </p:nvSpPr>
          <p:spPr>
            <a:xfrm>
              <a:off x="5105160" y="3581280"/>
              <a:ext cx="1904760" cy="38124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8"/>
            <p:cNvSpPr/>
            <p:nvPr/>
          </p:nvSpPr>
          <p:spPr>
            <a:xfrm>
              <a:off x="7010280" y="3581280"/>
              <a:ext cx="380880" cy="38124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9"/>
            <p:cNvSpPr/>
            <p:nvPr/>
          </p:nvSpPr>
          <p:spPr>
            <a:xfrm>
              <a:off x="7391520" y="3581280"/>
              <a:ext cx="380880" cy="38124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0"/>
            <p:cNvSpPr/>
            <p:nvPr/>
          </p:nvSpPr>
          <p:spPr>
            <a:xfrm>
              <a:off x="7772400" y="3581280"/>
              <a:ext cx="380880" cy="38124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Box 11"/>
            <p:cNvSpPr/>
            <p:nvPr/>
          </p:nvSpPr>
          <p:spPr>
            <a:xfrm>
              <a:off x="3809880" y="36572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Box 12"/>
            <p:cNvSpPr/>
            <p:nvPr/>
          </p:nvSpPr>
          <p:spPr>
            <a:xfrm>
              <a:off x="5791320" y="36572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Box 13"/>
            <p:cNvSpPr/>
            <p:nvPr/>
          </p:nvSpPr>
          <p:spPr>
            <a:xfrm>
              <a:off x="7010280" y="3657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14"/>
            <p:cNvSpPr/>
            <p:nvPr/>
          </p:nvSpPr>
          <p:spPr>
            <a:xfrm>
              <a:off x="7391520" y="3657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15"/>
            <p:cNvSpPr/>
            <p:nvPr/>
          </p:nvSpPr>
          <p:spPr>
            <a:xfrm>
              <a:off x="7772400" y="3657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16"/>
            <p:cNvSpPr/>
            <p:nvPr/>
          </p:nvSpPr>
          <p:spPr>
            <a:xfrm>
              <a:off x="3200400" y="3962520"/>
              <a:ext cx="1904760" cy="38124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7"/>
            <p:cNvSpPr/>
            <p:nvPr/>
          </p:nvSpPr>
          <p:spPr>
            <a:xfrm>
              <a:off x="5105160" y="3962520"/>
              <a:ext cx="1904760" cy="38124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8"/>
            <p:cNvSpPr/>
            <p:nvPr/>
          </p:nvSpPr>
          <p:spPr>
            <a:xfrm>
              <a:off x="7010280" y="3962520"/>
              <a:ext cx="380880" cy="38124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9"/>
            <p:cNvSpPr/>
            <p:nvPr/>
          </p:nvSpPr>
          <p:spPr>
            <a:xfrm>
              <a:off x="7391520" y="3962520"/>
              <a:ext cx="380880" cy="38124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0"/>
            <p:cNvSpPr/>
            <p:nvPr/>
          </p:nvSpPr>
          <p:spPr>
            <a:xfrm>
              <a:off x="7772400" y="3962520"/>
              <a:ext cx="380880" cy="38124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21"/>
            <p:cNvSpPr/>
            <p:nvPr/>
          </p:nvSpPr>
          <p:spPr>
            <a:xfrm>
              <a:off x="3809880" y="40388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Box 22"/>
            <p:cNvSpPr/>
            <p:nvPr/>
          </p:nvSpPr>
          <p:spPr>
            <a:xfrm>
              <a:off x="5791320" y="40388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23"/>
            <p:cNvSpPr/>
            <p:nvPr/>
          </p:nvSpPr>
          <p:spPr>
            <a:xfrm>
              <a:off x="7010280" y="40388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24"/>
            <p:cNvSpPr/>
            <p:nvPr/>
          </p:nvSpPr>
          <p:spPr>
            <a:xfrm>
              <a:off x="7391520" y="40388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25"/>
            <p:cNvSpPr/>
            <p:nvPr/>
          </p:nvSpPr>
          <p:spPr>
            <a:xfrm>
              <a:off x="7772400" y="40388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B469-405D-455E-BE3F-69139D589BF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143000" y="24382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x+1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2x +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nother possible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34"/>
          <p:cNvGrpSpPr/>
          <p:nvPr/>
        </p:nvGrpSpPr>
        <p:grpSpPr>
          <a:xfrm>
            <a:off x="3505320" y="3352680"/>
            <a:ext cx="1295280" cy="1141920"/>
            <a:chOff x="3505320" y="3352680"/>
            <a:chExt cx="1295280" cy="1141920"/>
          </a:xfrm>
        </p:grpSpPr>
        <p:sp>
          <p:nvSpPr>
            <p:cNvPr id="186" name="Rectangle 26"/>
            <p:cNvSpPr/>
            <p:nvPr/>
          </p:nvSpPr>
          <p:spPr>
            <a:xfrm>
              <a:off x="3505320" y="3352680"/>
              <a:ext cx="914400" cy="9144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27"/>
            <p:cNvSpPr/>
            <p:nvPr/>
          </p:nvSpPr>
          <p:spPr>
            <a:xfrm>
              <a:off x="4419720" y="3352680"/>
              <a:ext cx="152280" cy="9144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28"/>
            <p:cNvSpPr/>
            <p:nvPr/>
          </p:nvSpPr>
          <p:spPr>
            <a:xfrm rot="5400000">
              <a:off x="3886200" y="3885840"/>
              <a:ext cx="152280" cy="9144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29"/>
            <p:cNvSpPr/>
            <p:nvPr/>
          </p:nvSpPr>
          <p:spPr>
            <a:xfrm rot="5400000">
              <a:off x="4419360" y="4267080"/>
              <a:ext cx="152280" cy="15228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30"/>
            <p:cNvSpPr/>
            <p:nvPr/>
          </p:nvSpPr>
          <p:spPr>
            <a:xfrm>
              <a:off x="3733920" y="36572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31"/>
            <p:cNvSpPr/>
            <p:nvPr/>
          </p:nvSpPr>
          <p:spPr>
            <a:xfrm>
              <a:off x="4343400" y="36572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32"/>
            <p:cNvSpPr/>
            <p:nvPr/>
          </p:nvSpPr>
          <p:spPr>
            <a:xfrm>
              <a:off x="3733920" y="41148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33"/>
            <p:cNvSpPr/>
            <p:nvPr/>
          </p:nvSpPr>
          <p:spPr>
            <a:xfrm>
              <a:off x="4343400" y="41263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45BE-4502-42A6-9F74-A0735BED74E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143000" y="2438280"/>
            <a:ext cx="73152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ost of the scaffolds we just saw were very problem specifi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eneral scaffolds are also helpfu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General &amp; specific scaffo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82E1-D9D4-4F1E-B61F-0C04628092D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143000" y="2438280"/>
            <a:ext cx="7315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me of you used “popsicle” sticks for th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ll of you used question stems in your FCCF grou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General &amp; specific scaffo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1A89-9920-487C-891F-D05F4D98529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143000" y="2438280"/>
            <a:ext cx="7315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other useful source for general scaffolds is available in the mathematical process package in TIPS on the Edugains websi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General &amp; specific scaffo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7CBE-21C4-49F8-B666-98CFB229993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143000" y="2438280"/>
            <a:ext cx="7315200" cy="59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ere have you seen something like this befo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patterns do you s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ave you thought about…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or examp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7DBC-24AF-4A1D-9462-F3012941D86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143000" y="2438280"/>
            <a:ext cx="73152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ask: You graph 2 lines. The 1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is 3x + 2y = 6 and the 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is –x + 3y = 17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third line lies between them. What might its equation b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B004-8181-4324-8809-7E3640C4417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Picture 1.png"/>
          <p:cNvPicPr/>
          <p:nvPr/>
        </p:nvPicPr>
        <p:blipFill>
          <a:blip r:embed="rId1"/>
          <a:stretch/>
        </p:blipFill>
        <p:spPr>
          <a:xfrm>
            <a:off x="0" y="987480"/>
            <a:ext cx="9144000" cy="4883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27C8-2D05-4B5E-A13B-24591073D66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143000" y="2438280"/>
            <a:ext cx="7315200" cy="65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e ask an open ques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obody respond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e thing we need to work on are strategies to use in that situation. Let’s try an examp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caffol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BE22-93DC-4C4A-82E9-414B3CFFF60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143000" y="2438280"/>
            <a:ext cx="731520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would you decide whether to graph the two lines or just sketch th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 are some scaffol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E50A-CB31-44FB-841F-D188EEC9207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143000" y="2438280"/>
            <a:ext cx="73152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o you think the slope of the in-between line will be positive or negative?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 are some scaffol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5916-636E-4686-9875-B11593787E7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143000" y="2438280"/>
            <a:ext cx="731520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graph the in-between line, how would you calculate the slo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else would you want to do to get the equation of the l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 are some scaffol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18E8-0015-4145-8624-743D9775309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Picture 1.png"/>
          <p:cNvPicPr/>
          <p:nvPr/>
        </p:nvPicPr>
        <p:blipFill>
          <a:blip r:embed="rId1"/>
          <a:stretch/>
        </p:blipFill>
        <p:spPr>
          <a:xfrm>
            <a:off x="0" y="987480"/>
            <a:ext cx="9144000" cy="4883040"/>
          </a:xfrm>
          <a:prstGeom prst="rect">
            <a:avLst/>
          </a:prstGeom>
          <a:ln w="0">
            <a:noFill/>
          </a:ln>
        </p:spPr>
      </p:pic>
      <p:sp>
        <p:nvSpPr>
          <p:cNvPr id="222" name="Straight Connector 4"/>
          <p:cNvSpPr/>
          <p:nvPr/>
        </p:nvSpPr>
        <p:spPr>
          <a:xfrm>
            <a:off x="0" y="1981080"/>
            <a:ext cx="9144000" cy="1600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7"/>
          <p:cNvSpPr/>
          <p:nvPr/>
        </p:nvSpPr>
        <p:spPr>
          <a:xfrm>
            <a:off x="0" y="1219320"/>
            <a:ext cx="8839080" cy="36576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9"/>
          <p:cNvSpPr/>
          <p:nvPr/>
        </p:nvSpPr>
        <p:spPr>
          <a:xfrm flipH="1">
            <a:off x="3048120" y="1295280"/>
            <a:ext cx="304560" cy="42674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12"/>
          <p:cNvSpPr/>
          <p:nvPr/>
        </p:nvSpPr>
        <p:spPr>
          <a:xfrm flipV="1">
            <a:off x="304920" y="2437920"/>
            <a:ext cx="8839080" cy="1219320"/>
          </a:xfrm>
          <a:prstGeom prst="line">
            <a:avLst/>
          </a:prstGeom>
          <a:ln w="2556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6064-617C-4D35-B1E5-2892FEACFC5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143000" y="2438280"/>
            <a:ext cx="7315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oose an open ques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t could be your own (e.g. from yesterday), one of mine or one from a resour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7A5D-9877-4AC9-9E8E-C62C53C66E7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143000" y="2438280"/>
            <a:ext cx="73152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ork with a partner to develop scaffolding questions that might help a student who doesn’t know how to start,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u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without taking away the student’s need to thin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FCC0-6513-4EC8-B348-ED1B0D9D946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143000" y="2438280"/>
            <a:ext cx="73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hare your work with another pair at another tab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70AA-74C8-4F67-A387-31246033B3C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143000" y="2438280"/>
            <a:ext cx="7315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pen questions and parallel tasks are built for instruction. The focus is not on evaluation, bu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ssessment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0955-0104-4B5E-9D08-E2C0ADEB149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1143000" y="2438280"/>
            <a:ext cx="7315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t makes total sense to use parallel tasks to measure communication and/or thinking and maybe (depending) knowledge or applic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ssessment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7C39-F810-41D6-A81B-18BD4EC2A35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1143000" y="2438280"/>
            <a:ext cx="7315200" cy="65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ask A: Think of a way to represent the pattern with the general term 3n +1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s 925 a term in the pattern? How do you know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o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69B5-96D9-43B0-8C3C-D4569353C93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143000" y="2133720"/>
            <a:ext cx="7315200" cy="59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 believe that this picture shows that the equation     4ab + (a – b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(a+b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o matter what a and b a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o you agr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Visual alge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3"/>
          <p:cNvGrpSpPr/>
          <p:nvPr/>
        </p:nvGrpSpPr>
        <p:grpSpPr>
          <a:xfrm>
            <a:off x="7315200" y="4267080"/>
            <a:ext cx="1523880" cy="1600200"/>
            <a:chOff x="7315200" y="4267080"/>
            <a:chExt cx="1523880" cy="1600200"/>
          </a:xfrm>
        </p:grpSpPr>
        <p:sp>
          <p:nvSpPr>
            <p:cNvPr id="100" name="Rectangle 5"/>
            <p:cNvSpPr/>
            <p:nvPr/>
          </p:nvSpPr>
          <p:spPr>
            <a:xfrm>
              <a:off x="7315200" y="4267080"/>
              <a:ext cx="1219320" cy="3204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0"/>
            <p:cNvSpPr/>
            <p:nvPr/>
          </p:nvSpPr>
          <p:spPr>
            <a:xfrm>
              <a:off x="7619760" y="5546880"/>
              <a:ext cx="1219320" cy="3204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 rot="5400000">
              <a:off x="8046720" y="4754520"/>
              <a:ext cx="1279800" cy="30456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2"/>
            <p:cNvSpPr/>
            <p:nvPr/>
          </p:nvSpPr>
          <p:spPr>
            <a:xfrm rot="5400000">
              <a:off x="6827400" y="5074920"/>
              <a:ext cx="1279800" cy="30456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9460-03E7-4DB5-BA61-4567D5C8997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143000" y="2438280"/>
            <a:ext cx="7315200" cy="71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ask B: Think of a way to represent a pattern where each term value is eight times the term number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s 925 a term in the pattern? How do you kn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o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3153-2410-428E-9B71-A34B7EBC6B5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143000" y="2438280"/>
            <a:ext cx="73152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t makes sense, even on a “test”, to use open tasks to ensure that students get an opportunity to tell as much as they know in whatever form works for them about an idea they have learn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ssessment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ECA3-6C40-4E8F-92A1-08C5A87F5E2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1143000" y="2438280"/>
            <a:ext cx="73152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ish this paragraph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s thoroughly as you ca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Make sure to justify what you s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 think that linear relations are useful becaus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o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159C-8535-4800-BF8C-EA8D0F2E4F1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143000" y="2438280"/>
            <a:ext cx="7315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o use a previously shared rubric before posing such questions to help students meet succes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It is important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9741-AC4F-4C78-B4D2-5B9E9B9459B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143000" y="2438280"/>
            <a:ext cx="7315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lthough assessment of learning should drive what you teach, it should not limit the strategies you use to meet all students’ need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ssessment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C67A-2228-4175-B841-41C77CA601F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1143000" y="2438280"/>
            <a:ext cx="731520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tarting at 1, using counting numbers, number off the people at your tab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n a minute, you will move to an area for people with your numb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Number 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B6C3-EC38-4129-BD58-0F171EF3578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1143000" y="2438280"/>
            <a:ext cx="7315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ur “big idea” for CAMPPP is that if you think more broadly about what you are focusing on in instruction, you are more likely t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ummarizing 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E7A9-3A99-4BD9-9D35-88A00196A2A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143000" y="2438280"/>
            <a:ext cx="73152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elp students make essential conn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sure that students learn what is really import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ummarizing 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74C5-0FA7-4D71-923D-EB0E55C41B8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1143000" y="2438280"/>
            <a:ext cx="7315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sure that a much broader range of students can meet suc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ummarizing 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9B60-2EFD-4BB0-BBD6-7F7A9C6EED0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143000" y="2438280"/>
            <a:ext cx="73152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rying to convince someone of the value of big ideas and only had 1 minute, what would you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iscuss with 3 people with your numb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If you wer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3D7E-B48B-49F4-B754-38A71027AF2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143000" y="2438280"/>
            <a:ext cx="7315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ere do you see the 4ab in the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y do you think that that part of the picture made sense for 4a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 can I do to scaffol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3"/>
          <p:cNvGrpSpPr/>
          <p:nvPr/>
        </p:nvGrpSpPr>
        <p:grpSpPr>
          <a:xfrm>
            <a:off x="7314840" y="5257800"/>
            <a:ext cx="1219680" cy="1295280"/>
            <a:chOff x="7314840" y="5257800"/>
            <a:chExt cx="1219680" cy="1295280"/>
          </a:xfrm>
        </p:grpSpPr>
        <p:sp>
          <p:nvSpPr>
            <p:cNvPr id="108" name="Rectangle 6"/>
            <p:cNvSpPr/>
            <p:nvPr/>
          </p:nvSpPr>
          <p:spPr>
            <a:xfrm>
              <a:off x="7315200" y="5257800"/>
              <a:ext cx="974880" cy="25848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7559640" y="6294600"/>
              <a:ext cx="974880" cy="25848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 rot="5400000">
              <a:off x="7893360" y="5653800"/>
              <a:ext cx="1036800" cy="24444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 rot="5400000">
              <a:off x="6918480" y="5912280"/>
              <a:ext cx="1036800" cy="24444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8331-B685-48B2-B855-EA92CD34D62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1143000" y="2438280"/>
            <a:ext cx="731520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ur CAMPPP big ideas are a work in progres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are encouraged to fine tune them with colleagues or on your own, but they should underpin lots of what you d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Remember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B1C6-30BA-4166-9EFC-1E04D071EBF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143000" y="2438280"/>
            <a:ext cx="73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ur focus has been on differentiating instructio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ummarizing D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71BB-DCF5-441C-BBD1-FDCFC0D2585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1143000" y="2438280"/>
            <a:ext cx="7315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e want all students, from struggling to talented, to all meet success, but to be challenged and to find the math engag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ummarizing D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A539-6A30-414C-9FA6-935C707E57D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143000" y="2438280"/>
            <a:ext cx="73152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vince a colleague why differentiating at the instruction level (and not just in terms of the complexity of follow-up) is important and you have 1 minute, what would you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If you want t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8372-ECE8-4E67-8A5F-9624C5F5C16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143000" y="2438280"/>
            <a:ext cx="73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ree other people with your number and make your ca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Join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3D98-AC23-4E33-BEB0-BAC7204DC37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Back to se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8B12-2652-4599-993A-05E12E14953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143000" y="2149560"/>
            <a:ext cx="731520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are truly welcome to ask any questions or offer any insights on what we’ve discussed in plenary this week.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o contact me directly: marian@onetwoinfinity.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Your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C288-A816-4378-881F-19829186C03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143000" y="2438280"/>
            <a:ext cx="73152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kind of shape would you look for to model (a+b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y that sha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 can I do to scaffol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9402-E267-420D-980C-E437A194C03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143000" y="2438280"/>
            <a:ext cx="7315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re are two squares in the pictu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re is an (a+b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  and an  (a-b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ich has to be which?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 can I do to scaffol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3"/>
          <p:cNvGrpSpPr/>
          <p:nvPr/>
        </p:nvGrpSpPr>
        <p:grpSpPr>
          <a:xfrm>
            <a:off x="7086600" y="3276720"/>
            <a:ext cx="1523880" cy="1600200"/>
            <a:chOff x="7086600" y="3276720"/>
            <a:chExt cx="1523880" cy="1600200"/>
          </a:xfrm>
        </p:grpSpPr>
        <p:sp>
          <p:nvSpPr>
            <p:cNvPr id="119" name="Rectangle 6"/>
            <p:cNvSpPr/>
            <p:nvPr/>
          </p:nvSpPr>
          <p:spPr>
            <a:xfrm>
              <a:off x="7086600" y="3276720"/>
              <a:ext cx="1219320" cy="3204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7"/>
            <p:cNvSpPr/>
            <p:nvPr/>
          </p:nvSpPr>
          <p:spPr>
            <a:xfrm>
              <a:off x="7391160" y="4556520"/>
              <a:ext cx="1219320" cy="3204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8"/>
            <p:cNvSpPr/>
            <p:nvPr/>
          </p:nvSpPr>
          <p:spPr>
            <a:xfrm rot="5400000">
              <a:off x="7818120" y="3764160"/>
              <a:ext cx="1279800" cy="30456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9"/>
            <p:cNvSpPr/>
            <p:nvPr/>
          </p:nvSpPr>
          <p:spPr>
            <a:xfrm rot="5400000">
              <a:off x="6598800" y="4084560"/>
              <a:ext cx="1279800" cy="30456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10"/>
          <p:cNvGrpSpPr/>
          <p:nvPr/>
        </p:nvGrpSpPr>
        <p:grpSpPr>
          <a:xfrm>
            <a:off x="6629400" y="3149640"/>
            <a:ext cx="2438280" cy="2409840"/>
            <a:chOff x="6629400" y="3149640"/>
            <a:chExt cx="2438280" cy="2409840"/>
          </a:xfrm>
        </p:grpSpPr>
        <p:grpSp>
          <p:nvGrpSpPr>
            <p:cNvPr id="124" name="Group 13"/>
            <p:cNvGrpSpPr/>
            <p:nvPr/>
          </p:nvGrpSpPr>
          <p:grpSpPr>
            <a:xfrm>
              <a:off x="7086600" y="3301920"/>
              <a:ext cx="1523880" cy="1599840"/>
              <a:chOff x="7086600" y="3301920"/>
              <a:chExt cx="1523880" cy="1599840"/>
            </a:xfrm>
          </p:grpSpPr>
          <p:sp>
            <p:nvSpPr>
              <p:cNvPr id="125" name="Rectangle 16"/>
              <p:cNvSpPr/>
              <p:nvPr/>
            </p:nvSpPr>
            <p:spPr>
              <a:xfrm>
                <a:off x="7086600" y="3301920"/>
                <a:ext cx="1219320" cy="320400"/>
              </a:xfrm>
              <a:prstGeom prst="rect">
                <a:avLst/>
              </a:prstGeom>
              <a:gradFill rotWithShape="0">
                <a:gsLst>
                  <a:gs pos="0">
                    <a:srgbClr val="cbffff"/>
                  </a:gs>
                  <a:gs pos="100000">
                    <a:srgbClr val="b5e5e9"/>
                  </a:gs>
                </a:gsLst>
                <a:lin ang="5400000"/>
              </a:gradFill>
              <a:ln w="12600">
                <a:solidFill>
                  <a:srgbClr val="000000"/>
                </a:solidFill>
                <a:round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7"/>
              <p:cNvSpPr/>
              <p:nvPr/>
            </p:nvSpPr>
            <p:spPr>
              <a:xfrm>
                <a:off x="7391160" y="4581360"/>
                <a:ext cx="1219320" cy="320400"/>
              </a:xfrm>
              <a:prstGeom prst="rect">
                <a:avLst/>
              </a:prstGeom>
              <a:gradFill rotWithShape="0">
                <a:gsLst>
                  <a:gs pos="0">
                    <a:srgbClr val="cbffff"/>
                  </a:gs>
                  <a:gs pos="100000">
                    <a:srgbClr val="b5e5e9"/>
                  </a:gs>
                </a:gsLst>
                <a:lin ang="5400000"/>
              </a:gradFill>
              <a:ln w="12600">
                <a:solidFill>
                  <a:srgbClr val="000000"/>
                </a:solidFill>
                <a:round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8"/>
              <p:cNvSpPr/>
              <p:nvPr/>
            </p:nvSpPr>
            <p:spPr>
              <a:xfrm rot="5400000">
                <a:off x="7818480" y="3789360"/>
                <a:ext cx="1279440" cy="304560"/>
              </a:xfrm>
              <a:prstGeom prst="rect">
                <a:avLst/>
              </a:prstGeom>
              <a:gradFill rotWithShape="0">
                <a:gsLst>
                  <a:gs pos="0">
                    <a:srgbClr val="cbffff"/>
                  </a:gs>
                  <a:gs pos="100000">
                    <a:srgbClr val="b5e5e9"/>
                  </a:gs>
                </a:gsLst>
                <a:lin ang="0"/>
              </a:gradFill>
              <a:ln w="12600">
                <a:solidFill>
                  <a:srgbClr val="000000"/>
                </a:solidFill>
                <a:round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9"/>
              <p:cNvSpPr/>
              <p:nvPr/>
            </p:nvSpPr>
            <p:spPr>
              <a:xfrm rot="5400000">
                <a:off x="6599160" y="4109760"/>
                <a:ext cx="1279440" cy="304560"/>
              </a:xfrm>
              <a:prstGeom prst="rect">
                <a:avLst/>
              </a:prstGeom>
              <a:gradFill rotWithShape="0">
                <a:gsLst>
                  <a:gs pos="0">
                    <a:srgbClr val="cbffff"/>
                  </a:gs>
                  <a:gs pos="100000">
                    <a:srgbClr val="b5e5e9"/>
                  </a:gs>
                </a:gsLst>
                <a:lin ang="0"/>
              </a:gradFill>
              <a:ln w="12600">
                <a:solidFill>
                  <a:srgbClr val="000000"/>
                </a:solidFill>
                <a:round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TextBox 12"/>
            <p:cNvSpPr/>
            <p:nvPr/>
          </p:nvSpPr>
          <p:spPr>
            <a:xfrm>
              <a:off x="6629400" y="383508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Box 13"/>
            <p:cNvSpPr/>
            <p:nvPr/>
          </p:nvSpPr>
          <p:spPr>
            <a:xfrm>
              <a:off x="7010280" y="497808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14"/>
            <p:cNvSpPr/>
            <p:nvPr/>
          </p:nvSpPr>
          <p:spPr>
            <a:xfrm>
              <a:off x="7848720" y="497808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15"/>
            <p:cNvSpPr/>
            <p:nvPr/>
          </p:nvSpPr>
          <p:spPr>
            <a:xfrm>
              <a:off x="6629400" y="314964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735A-9A4A-4212-8E43-C81DE564565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143000" y="2133720"/>
            <a:ext cx="731520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xt I would ask--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lease draw a picture to show a different algebraic relationship that is always tru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Visual alge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2134-B9F2-48AF-B1CB-7F9C4818909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143000" y="2438280"/>
            <a:ext cx="7315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y is x + 1 = 1 + x an algebraic relationship that is always tr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kind of picture might show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 can I do to scaffol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B1E2-5839-419B-8ADA-5EF58B08FA1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143000" y="2438280"/>
            <a:ext cx="73152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ayb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 can I do to scaffol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9"/>
          <p:cNvGrpSpPr/>
          <p:nvPr/>
        </p:nvGrpSpPr>
        <p:grpSpPr>
          <a:xfrm>
            <a:off x="685800" y="3581280"/>
            <a:ext cx="2895480" cy="1219320"/>
            <a:chOff x="685800" y="3581280"/>
            <a:chExt cx="2895480" cy="1219320"/>
          </a:xfrm>
        </p:grpSpPr>
        <p:sp>
          <p:nvSpPr>
            <p:cNvPr id="143" name="Rectangle 5"/>
            <p:cNvSpPr/>
            <p:nvPr/>
          </p:nvSpPr>
          <p:spPr>
            <a:xfrm>
              <a:off x="685800" y="3581280"/>
              <a:ext cx="2895480" cy="4572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6"/>
            <p:cNvSpPr/>
            <p:nvPr/>
          </p:nvSpPr>
          <p:spPr>
            <a:xfrm>
              <a:off x="1447560" y="43434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7"/>
            <p:cNvSpPr/>
            <p:nvPr/>
          </p:nvSpPr>
          <p:spPr>
            <a:xfrm>
              <a:off x="1828800" y="35812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8"/>
            <p:cNvSpPr/>
            <p:nvPr/>
          </p:nvSpPr>
          <p:spPr>
            <a:xfrm>
              <a:off x="1523880" y="44197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26"/>
          <p:cNvGrpSpPr/>
          <p:nvPr/>
        </p:nvGrpSpPr>
        <p:grpSpPr>
          <a:xfrm>
            <a:off x="4800240" y="3428640"/>
            <a:ext cx="2895480" cy="1219320"/>
            <a:chOff x="4800240" y="3428640"/>
            <a:chExt cx="2895480" cy="1219320"/>
          </a:xfrm>
        </p:grpSpPr>
        <p:sp>
          <p:nvSpPr>
            <p:cNvPr id="148" name="Rectangle 27"/>
            <p:cNvSpPr/>
            <p:nvPr/>
          </p:nvSpPr>
          <p:spPr>
            <a:xfrm rot="10800000">
              <a:off x="4800240" y="4187880"/>
              <a:ext cx="2895480" cy="4554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8"/>
            <p:cNvSpPr/>
            <p:nvPr/>
          </p:nvSpPr>
          <p:spPr>
            <a:xfrm rot="10800000">
              <a:off x="6476760" y="3428640"/>
              <a:ext cx="457200" cy="4554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Box 29"/>
            <p:cNvSpPr/>
            <p:nvPr/>
          </p:nvSpPr>
          <p:spPr>
            <a:xfrm rot="10800000">
              <a:off x="5643000" y="42796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30"/>
            <p:cNvSpPr/>
            <p:nvPr/>
          </p:nvSpPr>
          <p:spPr>
            <a:xfrm rot="10800000">
              <a:off x="5947920" y="34444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01:38:15Z</dcterms:created>
  <dc:creator>PSteele</dc:creator>
  <dc:description/>
  <dc:language>en-US</dc:language>
  <cp:lastModifiedBy>Marian Small</cp:lastModifiedBy>
  <dcterms:modified xsi:type="dcterms:W3CDTF">2009-08-21T02:02:05Z</dcterms:modified>
  <cp:revision>333</cp:revision>
  <dc:subject/>
  <dc:title>Slide 1</dc:title>
</cp:coreProperties>
</file>